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hammer.wav" ContentType="audio/x-wav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5.png" ContentType="image/png"/>
  <Override PartName="/ppt/media/image6.gif" ContentType="image/gif"/>
  <Override PartName="/ppt/media/image13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8.jpeg" ContentType="image/jpeg"/>
  <Override PartName="/ppt/media/click.wav" ContentType="audio/x-wav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490-EF19-4E0F-B159-FBD88E43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F085-1B01-4615-97D4-1F5E79BE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6C7-BAB8-42C1-B86C-B41A6FBE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BD5-CD32-40AA-BFD4-543B5F0D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148-2AEA-4AFB-B750-109C1B68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D46-53BD-4018-9E24-C5E6B9EF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B07-8E81-4B21-9A47-4A46030E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172-57F6-483D-AA15-17D4EB75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DFE-F411-42B1-89A3-B20851F0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535-2EC2-4ECF-B935-67D743B5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578-CD47-4AF7-8EF7-549A6647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7C4-20DC-4386-A3ED-4ABEEB0A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07D4-E165-49BA-816D-18B0ECC28E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6,&#36896;&#32440;&#26415;&#30340;&#21457;&#26126;&#21644;&#25913;&#36827;" TargetMode="External"/><Relationship Id="rId2" Type="http://schemas.openxmlformats.org/officeDocument/2006/relationships/hyperlink" Target="-1,12,&#24352;&#34913;" TargetMode="External"/><Relationship Id="rId3" Type="http://schemas.openxmlformats.org/officeDocument/2006/relationships/hyperlink" Target="-1,13,&#8220;&#31070;&#21307;&#8221;&#21326;&#20311;" TargetMode="External"/><Relationship Id="rId4" Type="http://schemas.openxmlformats.org/officeDocument/2006/relationships/hyperlink" Target="266,14,&#8220;&#21307;&#22307;&#8221;&#24352;&#20210;&#26223;" TargetMode="External"/><Relationship Id="rId5" Type="http://schemas.openxmlformats.org/officeDocument/2006/relationships/hyperlink" Target="-1,5,&#24187;&#28783;&#29255; 5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audio" Target="../media/click.wav"/><Relationship Id="rId14" Type="http://schemas.openxmlformats.org/officeDocument/2006/relationships/audio" Target="../media/hammer.wav"/><Relationship Id="rId15" Type="http://schemas.openxmlformats.org/officeDocument/2006/relationships/audio" Target="../media/hammer.wav"/><Relationship Id="rId16" Type="http://schemas.openxmlformats.org/officeDocument/2006/relationships/audio" Target="../media/hammer.wav"/><Relationship Id="rId17" Type="http://schemas.openxmlformats.org/officeDocument/2006/relationships/audio" Target="../media/click.wav"/><Relationship Id="rId18" Type="http://schemas.openxmlformats.org/officeDocument/2006/relationships/audio" Target="../media/hammer.wav"/><Relationship Id="rId19" Type="http://schemas.openxmlformats.org/officeDocument/2006/relationships/audio" Target="../media/hammer.wav"/><Relationship Id="rId20" Type="http://schemas.openxmlformats.org/officeDocument/2006/relationships/audio" Target="../media/hammer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hammer.wav"/><Relationship Id="rId24" Type="http://schemas.openxmlformats.org/officeDocument/2006/relationships/audio" Target="../media/hammer.wav"/><Relationship Id="rId25" Type="http://schemas.openxmlformats.org/officeDocument/2006/relationships/audio" Target="../media/click.wav"/><Relationship Id="rId26" Type="http://schemas.openxmlformats.org/officeDocument/2006/relationships/audio" Target="../media/hammer.wav"/><Relationship Id="rId27" Type="http://schemas.openxmlformats.org/officeDocument/2006/relationships/audio" Target="../media/hammer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</a:t>
            </a:r>
            <a:r>
              <a:rPr b="0" lang="en-US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6</a:t>
            </a:r>
            <a:r>
              <a:rPr b="0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课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昌盛的秦汉文化</a:t>
            </a:r>
            <a:r>
              <a:rPr b="0" lang="en-US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</a:t>
            </a:r>
            <a:r>
              <a:rPr b="0" lang="en-US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高山流水.mid" descr=""/>
          <p:cNvPicPr/>
          <p:nvPr/>
        </p:nvPicPr>
        <p:blipFill>
          <a:blip r:embed="rId2"/>
          <a:stretch/>
        </p:blipFill>
        <p:spPr>
          <a:xfrm>
            <a:off x="5867280" y="4292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6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动作按钮: 开始 12289"/>
          <p:cNvSpPr/>
          <p:nvPr/>
        </p:nvSpPr>
        <p:spPr>
          <a:xfrm>
            <a:off x="179280" y="638172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627280" y="620280"/>
            <a:ext cx="3886560" cy="10004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2291"/>
          <p:cNvSpPr/>
          <p:nvPr/>
        </p:nvSpPr>
        <p:spPr>
          <a:xfrm>
            <a:off x="611280" y="2205000"/>
            <a:ext cx="8064360" cy="3095640"/>
          </a:xfrm>
          <a:prstGeom prst="rect">
            <a:avLst/>
          </a:prstGeom>
          <a:solidFill>
            <a:srgbClr val="33cc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你觉得每天做广播体操对你的身体有好处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文本框 12292"/>
          <p:cNvSpPr/>
          <p:nvPr/>
        </p:nvSpPr>
        <p:spPr>
          <a:xfrm>
            <a:off x="1609920" y="22766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医圣”张仲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编写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伤寒杂病论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华文新魏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奠定中医治疗学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13316"/>
          <p:cNvGrpSpPr/>
          <p:nvPr/>
        </p:nvGrpSpPr>
        <p:grpSpPr>
          <a:xfrm>
            <a:off x="4506840" y="1600200"/>
            <a:ext cx="4255560" cy="4952520"/>
            <a:chOff x="4506840" y="1600200"/>
            <a:chExt cx="4255560" cy="4952520"/>
          </a:xfrm>
        </p:grpSpPr>
        <p:pic>
          <p:nvPicPr>
            <p:cNvPr id="184" name="图片 13317" descr="张仲景画像"/>
            <p:cNvPicPr/>
            <p:nvPr/>
          </p:nvPicPr>
          <p:blipFill>
            <a:blip r:embed="rId2"/>
            <a:stretch/>
          </p:blipFill>
          <p:spPr>
            <a:xfrm>
              <a:off x="4506840" y="1600200"/>
              <a:ext cx="4255560" cy="49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文本框 13318"/>
            <p:cNvSpPr/>
            <p:nvPr/>
          </p:nvSpPr>
          <p:spPr>
            <a:xfrm>
              <a:off x="4827240" y="570816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33cc"/>
                  </a:solidFill>
                  <a:latin typeface="Arial"/>
                  <a:ea typeface="隶书"/>
                </a:rPr>
                <a:t>张仲景像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动作按钮: 开始 13319"/>
          <p:cNvSpPr/>
          <p:nvPr/>
        </p:nvSpPr>
        <p:spPr>
          <a:xfrm>
            <a:off x="395280" y="623736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4" h="21600">
                <a:moveTo>
                  <a:pt x="7313" y="10800"/>
                </a:moveTo>
                <a:lnTo>
                  <a:pt x="17818" y="3794"/>
                </a:lnTo>
                <a:lnTo>
                  <a:pt x="17818" y="17806"/>
                </a:lnTo>
                <a:close/>
              </a:path>
              <a:path fill="darken" w="21624" h="21600">
                <a:moveTo>
                  <a:pt x="3806" y="3794"/>
                </a:moveTo>
                <a:lnTo>
                  <a:pt x="5468" y="3794"/>
                </a:lnTo>
                <a:lnTo>
                  <a:pt x="5468" y="17806"/>
                </a:lnTo>
                <a:lnTo>
                  <a:pt x="3806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98976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  <a:gridCol w="914400"/>
                <a:gridCol w="6019920"/>
              </a:tblGrid>
              <a:tr h="1066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科技领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代表人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时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    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主要成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文本框 4137"/>
          <p:cNvSpPr/>
          <p:nvPr/>
        </p:nvSpPr>
        <p:spPr>
          <a:xfrm>
            <a:off x="2286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4138"/>
          <p:cNvSpPr/>
          <p:nvPr/>
        </p:nvSpPr>
        <p:spPr>
          <a:xfrm>
            <a:off x="165600" y="175248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ea typeface="华文新魏"/>
                <a:hlinkClick r:id="rId1"/>
              </a:rPr>
              <a:t>造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文本框 4139"/>
          <p:cNvSpPr/>
          <p:nvPr/>
        </p:nvSpPr>
        <p:spPr>
          <a:xfrm>
            <a:off x="1308600" y="220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蔡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文本框 4140"/>
          <p:cNvSpPr/>
          <p:nvPr/>
        </p:nvSpPr>
        <p:spPr>
          <a:xfrm>
            <a:off x="2299320" y="1219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西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文本框 4141"/>
          <p:cNvSpPr/>
          <p:nvPr/>
        </p:nvSpPr>
        <p:spPr>
          <a:xfrm>
            <a:off x="2375280" y="220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东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文本框 4142"/>
          <p:cNvSpPr/>
          <p:nvPr/>
        </p:nvSpPr>
        <p:spPr>
          <a:xfrm>
            <a:off x="2375280" y="518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东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文本框 4143"/>
          <p:cNvSpPr/>
          <p:nvPr/>
        </p:nvSpPr>
        <p:spPr>
          <a:xfrm>
            <a:off x="237528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东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文本框 4144"/>
          <p:cNvSpPr/>
          <p:nvPr/>
        </p:nvSpPr>
        <p:spPr>
          <a:xfrm>
            <a:off x="2375280" y="3276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东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4145"/>
          <p:cNvSpPr/>
          <p:nvPr/>
        </p:nvSpPr>
        <p:spPr>
          <a:xfrm>
            <a:off x="2375280" y="6019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东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4146"/>
          <p:cNvSpPr/>
          <p:nvPr/>
        </p:nvSpPr>
        <p:spPr>
          <a:xfrm>
            <a:off x="165600" y="3200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数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文本框 4147"/>
          <p:cNvSpPr/>
          <p:nvPr/>
        </p:nvSpPr>
        <p:spPr>
          <a:xfrm>
            <a:off x="0" y="4149720"/>
            <a:ext cx="1042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华文新魏"/>
                <a:hlinkClick r:id="rId2"/>
              </a:rPr>
              <a:t>天文地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文本框 4148"/>
          <p:cNvSpPr/>
          <p:nvPr/>
        </p:nvSpPr>
        <p:spPr>
          <a:xfrm>
            <a:off x="165600" y="5638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医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文本框 4149"/>
          <p:cNvSpPr/>
          <p:nvPr/>
        </p:nvSpPr>
        <p:spPr>
          <a:xfrm>
            <a:off x="1308600" y="4114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张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4150"/>
          <p:cNvSpPr/>
          <p:nvPr/>
        </p:nvSpPr>
        <p:spPr>
          <a:xfrm>
            <a:off x="1232280" y="510552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ea typeface="华文新魏"/>
                <a:hlinkClick r:id="rId3"/>
              </a:rPr>
              <a:t>华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4151"/>
          <p:cNvSpPr/>
          <p:nvPr/>
        </p:nvSpPr>
        <p:spPr>
          <a:xfrm>
            <a:off x="1162080" y="6019920"/>
            <a:ext cx="91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ea typeface="华文新魏"/>
                <a:hlinkClick r:id="rId4"/>
              </a:rPr>
              <a:t>张仲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4152"/>
          <p:cNvSpPr/>
          <p:nvPr/>
        </p:nvSpPr>
        <p:spPr>
          <a:xfrm>
            <a:off x="4482360" y="1219320"/>
            <a:ext cx="3533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33cc"/>
                </a:solidFill>
                <a:uFillTx/>
                <a:latin typeface="Times New Roman"/>
                <a:ea typeface="华文新魏"/>
                <a:hlinkClick r:id="rId5"/>
              </a:rPr>
              <a:t>目前世界上已知最早的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4153"/>
          <p:cNvSpPr/>
          <p:nvPr/>
        </p:nvSpPr>
        <p:spPr>
          <a:xfrm>
            <a:off x="3260880" y="2098800"/>
            <a:ext cx="588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进造纸术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仅降低成本，而且提高纸的产量和质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文本框 4154"/>
          <p:cNvSpPr/>
          <p:nvPr/>
        </p:nvSpPr>
        <p:spPr>
          <a:xfrm>
            <a:off x="3168720" y="320040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九章算术》成书，奠定中国古代数学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4155"/>
          <p:cNvSpPr/>
          <p:nvPr/>
        </p:nvSpPr>
        <p:spPr>
          <a:xfrm>
            <a:off x="3168720" y="408636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发明地动仪，是世界上公认最早的地震仪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4156"/>
          <p:cNvSpPr/>
          <p:nvPr/>
        </p:nvSpPr>
        <p:spPr>
          <a:xfrm>
            <a:off x="3184560" y="4952880"/>
            <a:ext cx="595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擅长外科手术，制成“麻沸散”，创制了医疗体操“五禽戏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4157"/>
          <p:cNvSpPr/>
          <p:nvPr/>
        </p:nvSpPr>
        <p:spPr>
          <a:xfrm>
            <a:off x="3168720" y="5851440"/>
            <a:ext cx="597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著有《伤寒杂病论》，奠定中医治疗学基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5121"/>
          <p:cNvGrpSpPr/>
          <p:nvPr/>
        </p:nvGrpSpPr>
        <p:grpSpPr>
          <a:xfrm>
            <a:off x="0" y="0"/>
            <a:ext cx="9144000" cy="6856920"/>
            <a:chOff x="0" y="0"/>
            <a:chExt cx="9144000" cy="6856920"/>
          </a:xfrm>
        </p:grpSpPr>
        <p:grpSp>
          <p:nvGrpSpPr>
            <p:cNvPr id="68" name="组合 5122"/>
            <p:cNvGrpSpPr/>
            <p:nvPr/>
          </p:nvGrpSpPr>
          <p:grpSpPr>
            <a:xfrm>
              <a:off x="4320" y="17280"/>
              <a:ext cx="9134640" cy="6820920"/>
              <a:chOff x="4320" y="17280"/>
              <a:chExt cx="9134640" cy="6820920"/>
            </a:xfrm>
          </p:grpSpPr>
          <p:sp>
            <p:nvSpPr>
              <p:cNvPr id="69" name="矩形 5123"/>
              <p:cNvSpPr/>
              <p:nvPr/>
            </p:nvSpPr>
            <p:spPr>
              <a:xfrm>
                <a:off x="4320" y="17280"/>
                <a:ext cx="9134640" cy="682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书写纸张西汉现，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改进造纸蔡贡献。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张衡发明地动仪，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《九章算术》定特点。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　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华佗制成“麻沸散”，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《神农本草经》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[1]</a:t>
                </a: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最先。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仲景《伤寒杂病论》。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中医治疗基础奠。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[1]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《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imes New Roman"/>
                  </a:rPr>
                  <a:t>神农本草经》是我国现存第一部药物学专著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矩形 5124"/>
              <p:cNvSpPr/>
              <p:nvPr/>
            </p:nvSpPr>
            <p:spPr>
              <a:xfrm>
                <a:off x="4320" y="17280"/>
                <a:ext cx="9134640" cy="6820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矩形 5125"/>
            <p:cNvSpPr/>
            <p:nvPr/>
          </p:nvSpPr>
          <p:spPr>
            <a:xfrm>
              <a:off x="0" y="0"/>
              <a:ext cx="9144000" cy="6856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文本框 5126"/>
          <p:cNvSpPr/>
          <p:nvPr/>
        </p:nvSpPr>
        <p:spPr>
          <a:xfrm>
            <a:off x="406440" y="731160"/>
            <a:ext cx="100332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历史小歌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4653000"/>
            <a:ext cx="8966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我国东汉时期最著名的两位医生是称为“医圣”的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“神医”的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146"/>
          <p:cNvSpPr/>
          <p:nvPr/>
        </p:nvSpPr>
        <p:spPr>
          <a:xfrm>
            <a:off x="5404320" y="112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蔡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6147"/>
          <p:cNvSpPr/>
          <p:nvPr/>
        </p:nvSpPr>
        <p:spPr>
          <a:xfrm>
            <a:off x="2544480" y="5229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张仲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6148"/>
          <p:cNvSpPr/>
          <p:nvPr/>
        </p:nvSpPr>
        <p:spPr>
          <a:xfrm>
            <a:off x="6772680" y="50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华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矩形 6149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国在西汉时期就已经发明了造纸术。东汉时，造纸术经过一位人物的改进，纸的使用开始普遍起来，他是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矩形 6150"/>
          <p:cNvSpPr/>
          <p:nvPr/>
        </p:nvSpPr>
        <p:spPr>
          <a:xfrm>
            <a:off x="0" y="191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现在我国培养的学生，在奥林匹克数学、物理竞赛中，多次夺得第一。其实早在汉朝时，我国古代数学体系就已形成，它是以哪一本著作的出现作为标志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矩形 6151"/>
          <p:cNvSpPr/>
          <p:nvPr/>
        </p:nvSpPr>
        <p:spPr>
          <a:xfrm>
            <a:off x="6563160" y="3716280"/>
            <a:ext cx="18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九章算术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动作按钮: 第一张 6152">
            <a:hlinkClick r:id="" action="ppaction://hlinkshowjump?jump=firstslide"/>
          </p:cNvPr>
          <p:cNvSpPr/>
          <p:nvPr/>
        </p:nvSpPr>
        <p:spPr>
          <a:xfrm>
            <a:off x="8172360" y="6173640"/>
            <a:ext cx="684360" cy="68436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84360"/>
              <a:gd name="textAreaBottom" fmla="*/ 640080 h 6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7169"/>
          <p:cNvGrpSpPr/>
          <p:nvPr/>
        </p:nvGrpSpPr>
        <p:grpSpPr>
          <a:xfrm>
            <a:off x="2181240" y="5105520"/>
            <a:ext cx="5741640" cy="723960"/>
            <a:chOff x="2181240" y="5105520"/>
            <a:chExt cx="5741640" cy="723960"/>
          </a:xfrm>
        </p:grpSpPr>
        <p:pic>
          <p:nvPicPr>
            <p:cNvPr id="84" name="图片 7170" descr="j0234687"/>
            <p:cNvPicPr/>
            <p:nvPr/>
          </p:nvPicPr>
          <p:blipFill>
            <a:blip r:embed="rId1"/>
            <a:stretch/>
          </p:blipFill>
          <p:spPr>
            <a:xfrm>
              <a:off x="2181240" y="5105520"/>
              <a:ext cx="122868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矩形 7171"/>
            <p:cNvSpPr/>
            <p:nvPr/>
          </p:nvSpPr>
          <p:spPr>
            <a:xfrm>
              <a:off x="4084560" y="5115960"/>
              <a:ext cx="3838320" cy="703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以上书写材料有哪些缺点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组合 7172"/>
          <p:cNvGrpSpPr/>
          <p:nvPr/>
        </p:nvGrpSpPr>
        <p:grpSpPr>
          <a:xfrm>
            <a:off x="4262760" y="1484280"/>
            <a:ext cx="1034280" cy="973080"/>
            <a:chOff x="4262760" y="1484280"/>
            <a:chExt cx="1034280" cy="973080"/>
          </a:xfrm>
        </p:grpSpPr>
        <p:grpSp>
          <p:nvGrpSpPr>
            <p:cNvPr id="87" name=""/>
            <p:cNvGrpSpPr/>
            <p:nvPr/>
          </p:nvGrpSpPr>
          <p:grpSpPr>
            <a:xfrm>
              <a:off x="4994640" y="2060640"/>
              <a:ext cx="360" cy="396720"/>
              <a:chOff x="4994640" y="2060640"/>
              <a:chExt cx="360" cy="396720"/>
            </a:xfrm>
          </p:grpSpPr>
          <p:sp>
            <p:nvSpPr>
              <p:cNvPr id="88" name="直接连接符 7173"/>
              <p:cNvSpPr/>
              <p:nvPr/>
            </p:nvSpPr>
            <p:spPr>
              <a:xfrm flipV="1">
                <a:off x="4995000" y="2060640"/>
                <a:ext cx="0" cy="39672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 txBox="1"/>
              <p:nvPr/>
            </p:nvSpPr>
            <p:spPr>
              <a:xfrm rot="10800000">
                <a:off x="4994640" y="2060640"/>
                <a:ext cx="36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文本框 7174"/>
            <p:cNvSpPr/>
            <p:nvPr/>
          </p:nvSpPr>
          <p:spPr>
            <a:xfrm>
              <a:off x="4262760" y="1484280"/>
              <a:ext cx="1034280" cy="520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  <a:ea typeface="隶书"/>
                </a:rPr>
                <a:t>商周时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3880" y="-77040"/>
            <a:ext cx="6838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02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造纸术的发明和改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176"/>
          <p:cNvSpPr/>
          <p:nvPr/>
        </p:nvSpPr>
        <p:spPr>
          <a:xfrm>
            <a:off x="3053160" y="700560"/>
            <a:ext cx="292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书写材料的变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图片 7177" descr="半坡遗址出土的鱼纹陶盆"/>
          <p:cNvPicPr/>
          <p:nvPr/>
        </p:nvPicPr>
        <p:blipFill>
          <a:blip r:embed="rId4"/>
          <a:stretch/>
        </p:blipFill>
        <p:spPr>
          <a:xfrm>
            <a:off x="1752480" y="3200400"/>
            <a:ext cx="16718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7178" descr="刻有文字的甲骨"/>
          <p:cNvPicPr/>
          <p:nvPr/>
        </p:nvPicPr>
        <p:blipFill>
          <a:blip r:embed="rId5"/>
          <a:srcRect l="12392" t="0" r="13218" b="4815"/>
          <a:stretch/>
        </p:blipFill>
        <p:spPr>
          <a:xfrm>
            <a:off x="4419720" y="2362320"/>
            <a:ext cx="987480" cy="12967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7179" descr="利簋及其铭文"/>
          <p:cNvPicPr/>
          <p:nvPr/>
        </p:nvPicPr>
        <p:blipFill>
          <a:blip r:embed="rId6"/>
          <a:stretch/>
        </p:blipFill>
        <p:spPr>
          <a:xfrm>
            <a:off x="4267080" y="3809880"/>
            <a:ext cx="1368720" cy="11876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7180" descr="汉代木简"/>
          <p:cNvPicPr/>
          <p:nvPr/>
        </p:nvPicPr>
        <p:blipFill>
          <a:blip r:embed="rId7"/>
          <a:stretch/>
        </p:blipFill>
        <p:spPr>
          <a:xfrm>
            <a:off x="7056360" y="2452680"/>
            <a:ext cx="1297080" cy="9763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7181" descr="两汉彩绘帛画"/>
          <p:cNvPicPr/>
          <p:nvPr/>
        </p:nvPicPr>
        <p:blipFill>
          <a:blip r:embed="rId8"/>
          <a:stretch/>
        </p:blipFill>
        <p:spPr>
          <a:xfrm>
            <a:off x="7236000" y="3645000"/>
            <a:ext cx="1014120" cy="143964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7182"/>
          <p:cNvGrpSpPr/>
          <p:nvPr/>
        </p:nvGrpSpPr>
        <p:grpSpPr>
          <a:xfrm>
            <a:off x="3428640" y="2895480"/>
            <a:ext cx="864000" cy="1655640"/>
            <a:chOff x="3428640" y="2895480"/>
            <a:chExt cx="864000" cy="1655640"/>
          </a:xfrm>
        </p:grpSpPr>
        <p:grpSp>
          <p:nvGrpSpPr>
            <p:cNvPr id="99" name=""/>
            <p:cNvGrpSpPr/>
            <p:nvPr/>
          </p:nvGrpSpPr>
          <p:grpSpPr>
            <a:xfrm>
              <a:off x="3428640" y="2895480"/>
              <a:ext cx="864000" cy="719280"/>
              <a:chOff x="3428640" y="2895480"/>
              <a:chExt cx="864000" cy="719280"/>
            </a:xfrm>
          </p:grpSpPr>
          <p:sp>
            <p:nvSpPr>
              <p:cNvPr id="100" name="直接连接符 7183"/>
              <p:cNvSpPr/>
              <p:nvPr/>
            </p:nvSpPr>
            <p:spPr>
              <a:xfrm flipV="1">
                <a:off x="3429000" y="2895480"/>
                <a:ext cx="86364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 rot="10800000">
                <a:off x="3428640" y="2895480"/>
                <a:ext cx="863640" cy="71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429000" y="3614760"/>
              <a:ext cx="719280" cy="936360"/>
              <a:chOff x="3429000" y="3614760"/>
              <a:chExt cx="719280" cy="936360"/>
            </a:xfrm>
          </p:grpSpPr>
          <p:sp>
            <p:nvSpPr>
              <p:cNvPr id="103" name="直接连接符 7184"/>
              <p:cNvSpPr/>
              <p:nvPr/>
            </p:nvSpPr>
            <p:spPr>
              <a:xfrm>
                <a:off x="3429000" y="3614760"/>
                <a:ext cx="719280" cy="9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 txBox="1"/>
              <p:nvPr/>
            </p:nvSpPr>
            <p:spPr>
              <a:xfrm>
                <a:off x="3429000" y="3614760"/>
                <a:ext cx="719280" cy="9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组合 7185"/>
          <p:cNvGrpSpPr/>
          <p:nvPr/>
        </p:nvGrpSpPr>
        <p:grpSpPr>
          <a:xfrm>
            <a:off x="5791320" y="2819520"/>
            <a:ext cx="1152360" cy="1657440"/>
            <a:chOff x="5791320" y="2819520"/>
            <a:chExt cx="1152360" cy="1657440"/>
          </a:xfrm>
        </p:grpSpPr>
        <p:grpSp>
          <p:nvGrpSpPr>
            <p:cNvPr id="106" name=""/>
            <p:cNvGrpSpPr/>
            <p:nvPr/>
          </p:nvGrpSpPr>
          <p:grpSpPr>
            <a:xfrm>
              <a:off x="5791320" y="2819520"/>
              <a:ext cx="360360" cy="360"/>
              <a:chOff x="5791320" y="2819520"/>
              <a:chExt cx="360360" cy="360"/>
            </a:xfrm>
          </p:grpSpPr>
          <p:sp>
            <p:nvSpPr>
              <p:cNvPr id="107" name="直接连接符 7186"/>
              <p:cNvSpPr/>
              <p:nvPr/>
            </p:nvSpPr>
            <p:spPr>
              <a:xfrm>
                <a:off x="5791320" y="281952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5791320" y="281952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91320" y="4476600"/>
              <a:ext cx="360360" cy="360"/>
              <a:chOff x="5791320" y="4476600"/>
              <a:chExt cx="360360" cy="360"/>
            </a:xfrm>
          </p:grpSpPr>
          <p:sp>
            <p:nvSpPr>
              <p:cNvPr id="110" name="直接连接符 7187"/>
              <p:cNvSpPr/>
              <p:nvPr/>
            </p:nvSpPr>
            <p:spPr>
              <a:xfrm>
                <a:off x="5791320" y="447660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5791320" y="447660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151680" y="2819520"/>
              <a:ext cx="360" cy="1657080"/>
              <a:chOff x="6151680" y="2819520"/>
              <a:chExt cx="360" cy="1657080"/>
            </a:xfrm>
          </p:grpSpPr>
          <p:sp>
            <p:nvSpPr>
              <p:cNvPr id="113" name="直接连接符 7188"/>
              <p:cNvSpPr/>
              <p:nvPr/>
            </p:nvSpPr>
            <p:spPr>
              <a:xfrm>
                <a:off x="6151680" y="2819520"/>
                <a:ext cx="0" cy="165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6151680" y="2819520"/>
                <a:ext cx="360" cy="1657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151680" y="3611160"/>
              <a:ext cx="142920" cy="360"/>
              <a:chOff x="6151680" y="3611160"/>
              <a:chExt cx="142920" cy="360"/>
            </a:xfrm>
          </p:grpSpPr>
          <p:sp>
            <p:nvSpPr>
              <p:cNvPr id="116" name="直接连接符 7189"/>
              <p:cNvSpPr/>
              <p:nvPr/>
            </p:nvSpPr>
            <p:spPr>
              <a:xfrm>
                <a:off x="6151680" y="3611160"/>
                <a:ext cx="1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6151680" y="36111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294240" y="3036240"/>
              <a:ext cx="576720" cy="574200"/>
              <a:chOff x="6294240" y="3036240"/>
              <a:chExt cx="576720" cy="574200"/>
            </a:xfrm>
          </p:grpSpPr>
          <p:sp>
            <p:nvSpPr>
              <p:cNvPr id="119" name="直接连接符 7190"/>
              <p:cNvSpPr/>
              <p:nvPr/>
            </p:nvSpPr>
            <p:spPr>
              <a:xfrm flipV="1">
                <a:off x="6294600" y="3036240"/>
                <a:ext cx="576360" cy="57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 rot="10800000">
                <a:off x="6294240" y="3036240"/>
                <a:ext cx="576360" cy="57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294600" y="3611160"/>
              <a:ext cx="649080" cy="720360"/>
              <a:chOff x="6294600" y="3611160"/>
              <a:chExt cx="649080" cy="720360"/>
            </a:xfrm>
          </p:grpSpPr>
          <p:sp>
            <p:nvSpPr>
              <p:cNvPr id="122" name="直接连接符 7191"/>
              <p:cNvSpPr/>
              <p:nvPr/>
            </p:nvSpPr>
            <p:spPr>
              <a:xfrm>
                <a:off x="6294600" y="3611160"/>
                <a:ext cx="649080" cy="72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6294600" y="3611160"/>
                <a:ext cx="649080" cy="72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组合 7192"/>
          <p:cNvGrpSpPr/>
          <p:nvPr/>
        </p:nvGrpSpPr>
        <p:grpSpPr>
          <a:xfrm>
            <a:off x="8388360" y="2779560"/>
            <a:ext cx="360720" cy="1657800"/>
            <a:chOff x="8388360" y="2779560"/>
            <a:chExt cx="360720" cy="1657800"/>
          </a:xfrm>
        </p:grpSpPr>
        <p:grpSp>
          <p:nvGrpSpPr>
            <p:cNvPr id="125" name=""/>
            <p:cNvGrpSpPr/>
            <p:nvPr/>
          </p:nvGrpSpPr>
          <p:grpSpPr>
            <a:xfrm>
              <a:off x="8388360" y="2779560"/>
              <a:ext cx="360360" cy="360"/>
              <a:chOff x="8388360" y="2779560"/>
              <a:chExt cx="360360" cy="360"/>
            </a:xfrm>
          </p:grpSpPr>
          <p:sp>
            <p:nvSpPr>
              <p:cNvPr id="126" name="直接连接符 7193"/>
              <p:cNvSpPr/>
              <p:nvPr/>
            </p:nvSpPr>
            <p:spPr>
              <a:xfrm>
                <a:off x="8388360" y="277956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388360" y="277956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8388360" y="4437000"/>
              <a:ext cx="360360" cy="360"/>
              <a:chOff x="8388360" y="4437000"/>
              <a:chExt cx="360360" cy="360"/>
            </a:xfrm>
          </p:grpSpPr>
          <p:sp>
            <p:nvSpPr>
              <p:cNvPr id="129" name="直接连接符 7194"/>
              <p:cNvSpPr/>
              <p:nvPr/>
            </p:nvSpPr>
            <p:spPr>
              <a:xfrm>
                <a:off x="8388360" y="443700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8388360" y="443700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8748720" y="2779560"/>
              <a:ext cx="360" cy="1657440"/>
              <a:chOff x="8748720" y="2779560"/>
              <a:chExt cx="360" cy="1657440"/>
            </a:xfrm>
          </p:grpSpPr>
          <p:sp>
            <p:nvSpPr>
              <p:cNvPr id="132" name="直接连接符 7195"/>
              <p:cNvSpPr/>
              <p:nvPr/>
            </p:nvSpPr>
            <p:spPr>
              <a:xfrm>
                <a:off x="8748720" y="2779560"/>
                <a:ext cx="0" cy="165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8748720" y="2779560"/>
                <a:ext cx="360" cy="165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组合 7196"/>
          <p:cNvGrpSpPr/>
          <p:nvPr/>
        </p:nvGrpSpPr>
        <p:grpSpPr>
          <a:xfrm>
            <a:off x="7596000" y="3573360"/>
            <a:ext cx="1369080" cy="2664000"/>
            <a:chOff x="7596000" y="3573360"/>
            <a:chExt cx="1369080" cy="2664000"/>
          </a:xfrm>
        </p:grpSpPr>
        <p:grpSp>
          <p:nvGrpSpPr>
            <p:cNvPr id="135" name=""/>
            <p:cNvGrpSpPr/>
            <p:nvPr/>
          </p:nvGrpSpPr>
          <p:grpSpPr>
            <a:xfrm>
              <a:off x="8748720" y="3573360"/>
              <a:ext cx="216000" cy="360"/>
              <a:chOff x="8748720" y="3573360"/>
              <a:chExt cx="216000" cy="360"/>
            </a:xfrm>
          </p:grpSpPr>
          <p:sp>
            <p:nvSpPr>
              <p:cNvPr id="136" name="直接连接符 7197"/>
              <p:cNvSpPr/>
              <p:nvPr/>
            </p:nvSpPr>
            <p:spPr>
              <a:xfrm>
                <a:off x="8748720" y="357336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>
                <a:off x="8748720" y="357336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8964720" y="3573360"/>
              <a:ext cx="360" cy="2663640"/>
              <a:chOff x="8964720" y="3573360"/>
              <a:chExt cx="360" cy="2663640"/>
            </a:xfrm>
          </p:grpSpPr>
          <p:sp>
            <p:nvSpPr>
              <p:cNvPr id="139" name="直接连接符 7198"/>
              <p:cNvSpPr/>
              <p:nvPr/>
            </p:nvSpPr>
            <p:spPr>
              <a:xfrm>
                <a:off x="8964720" y="3573360"/>
                <a:ext cx="0" cy="266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8964720" y="3573360"/>
                <a:ext cx="360" cy="266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7596000" y="6237000"/>
              <a:ext cx="1368720" cy="360"/>
              <a:chOff x="7596000" y="6237000"/>
              <a:chExt cx="1368720" cy="360"/>
            </a:xfrm>
          </p:grpSpPr>
          <p:sp>
            <p:nvSpPr>
              <p:cNvPr id="142" name="直接连接符 7199"/>
              <p:cNvSpPr/>
              <p:nvPr/>
            </p:nvSpPr>
            <p:spPr>
              <a:xfrm flipH="1">
                <a:off x="7596000" y="6237000"/>
                <a:ext cx="136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7596360" y="6237000"/>
                <a:ext cx="13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4" name="图片 7200" descr="扶风纸"/>
          <p:cNvPicPr/>
          <p:nvPr/>
        </p:nvPicPr>
        <p:blipFill>
          <a:blip r:embed="rId9"/>
          <a:stretch/>
        </p:blipFill>
        <p:spPr>
          <a:xfrm>
            <a:off x="5029200" y="5477040"/>
            <a:ext cx="2232000" cy="1380960"/>
          </a:xfrm>
          <a:prstGeom prst="rect">
            <a:avLst/>
          </a:prstGeom>
          <a:ln w="0">
            <a:noFill/>
          </a:ln>
        </p:spPr>
      </p:pic>
      <p:grpSp>
        <p:nvGrpSpPr>
          <p:cNvPr id="145" name="组合 7201"/>
          <p:cNvGrpSpPr/>
          <p:nvPr/>
        </p:nvGrpSpPr>
        <p:grpSpPr>
          <a:xfrm>
            <a:off x="1680120" y="4918680"/>
            <a:ext cx="1509120" cy="1939320"/>
            <a:chOff x="1680120" y="4918680"/>
            <a:chExt cx="1509120" cy="1939320"/>
          </a:xfrm>
        </p:grpSpPr>
        <p:pic>
          <p:nvPicPr>
            <p:cNvPr id="146" name="图片 7202" descr="蔡伦像"/>
            <p:cNvPicPr/>
            <p:nvPr/>
          </p:nvPicPr>
          <p:blipFill>
            <a:blip r:embed="rId10"/>
            <a:stretch/>
          </p:blipFill>
          <p:spPr>
            <a:xfrm>
              <a:off x="1708200" y="4940280"/>
              <a:ext cx="148104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文本框 7203"/>
            <p:cNvSpPr/>
            <p:nvPr/>
          </p:nvSpPr>
          <p:spPr>
            <a:xfrm>
              <a:off x="1680120" y="4918680"/>
              <a:ext cx="485280" cy="11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cc"/>
                  </a:solidFill>
                  <a:latin typeface="Arial"/>
                  <a:ea typeface="隶书"/>
                </a:rPr>
                <a:t>蔡伦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429000" y="6248520"/>
            <a:ext cx="936720" cy="360"/>
            <a:chOff x="3429000" y="6248520"/>
            <a:chExt cx="936720" cy="360"/>
          </a:xfrm>
        </p:grpSpPr>
        <p:sp>
          <p:nvSpPr>
            <p:cNvPr id="149" name="直接连接符 7204"/>
            <p:cNvSpPr/>
            <p:nvPr/>
          </p:nvSpPr>
          <p:spPr>
            <a:xfrm flipH="1">
              <a:off x="3429000" y="62485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3429000" y="624852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文本框 7205"/>
          <p:cNvSpPr/>
          <p:nvPr/>
        </p:nvSpPr>
        <p:spPr>
          <a:xfrm>
            <a:off x="7372800" y="5791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隶书"/>
              </a:rPr>
              <a:t>西汉时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组合 7206"/>
          <p:cNvGrpSpPr/>
          <p:nvPr/>
        </p:nvGrpSpPr>
        <p:grpSpPr>
          <a:xfrm>
            <a:off x="2205360" y="1523880"/>
            <a:ext cx="1034280" cy="1692000"/>
            <a:chOff x="2205360" y="1523880"/>
            <a:chExt cx="1034280" cy="1692000"/>
          </a:xfrm>
        </p:grpSpPr>
        <p:sp>
          <p:nvSpPr>
            <p:cNvPr id="153" name="文本框 7207"/>
            <p:cNvSpPr/>
            <p:nvPr/>
          </p:nvSpPr>
          <p:spPr>
            <a:xfrm>
              <a:off x="2205360" y="1523880"/>
              <a:ext cx="1034280" cy="520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  <a:ea typeface="隶书"/>
                </a:rPr>
                <a:t>原始社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660400" y="2136240"/>
              <a:ext cx="360" cy="1079640"/>
              <a:chOff x="2660400" y="2136240"/>
              <a:chExt cx="360" cy="1079640"/>
            </a:xfrm>
          </p:grpSpPr>
          <p:sp>
            <p:nvSpPr>
              <p:cNvPr id="155" name="直接连接符 7208"/>
              <p:cNvSpPr/>
              <p:nvPr/>
            </p:nvSpPr>
            <p:spPr>
              <a:xfrm flipV="1">
                <a:off x="2660760" y="2136240"/>
                <a:ext cx="0" cy="107964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 rot="10800000">
                <a:off x="2660400" y="2136240"/>
                <a:ext cx="360" cy="10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组合 7209"/>
          <p:cNvGrpSpPr/>
          <p:nvPr/>
        </p:nvGrpSpPr>
        <p:grpSpPr>
          <a:xfrm>
            <a:off x="7104240" y="1484280"/>
            <a:ext cx="1034280" cy="1007640"/>
            <a:chOff x="7104240" y="1484280"/>
            <a:chExt cx="1034280" cy="1007640"/>
          </a:xfrm>
        </p:grpSpPr>
        <p:sp>
          <p:nvSpPr>
            <p:cNvPr id="158" name="文本框 7210"/>
            <p:cNvSpPr/>
            <p:nvPr/>
          </p:nvSpPr>
          <p:spPr>
            <a:xfrm>
              <a:off x="7104240" y="1484280"/>
              <a:ext cx="1034280" cy="520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  <a:ea typeface="隶书"/>
                </a:rPr>
                <a:t>战国时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7632720" y="2060280"/>
              <a:ext cx="9360" cy="431640"/>
              <a:chOff x="7632720" y="2060280"/>
              <a:chExt cx="9360" cy="431640"/>
            </a:xfrm>
          </p:grpSpPr>
          <p:sp>
            <p:nvSpPr>
              <p:cNvPr id="160" name="直接连接符 7211"/>
              <p:cNvSpPr/>
              <p:nvPr/>
            </p:nvSpPr>
            <p:spPr>
              <a:xfrm flipV="1">
                <a:off x="7632720" y="2060280"/>
                <a:ext cx="9360" cy="43164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 rot="10800000">
                <a:off x="7632720" y="2060280"/>
                <a:ext cx="9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文本框 7212"/>
          <p:cNvSpPr/>
          <p:nvPr/>
        </p:nvSpPr>
        <p:spPr>
          <a:xfrm>
            <a:off x="3276720" y="579132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隶书"/>
              </a:rPr>
              <a:t>东汉时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动作按钮: 信息 7213"/>
          <p:cNvSpPr/>
          <p:nvPr/>
        </p:nvSpPr>
        <p:spPr>
          <a:xfrm>
            <a:off x="304920" y="609588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10800" y="380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14">
                <a:moveTo>
                  <a:pt x="10800" y="417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14">
                <a:moveTo>
                  <a:pt x="8224" y="8231"/>
                </a:moveTo>
                <a:lnTo>
                  <a:pt x="12088" y="8231"/>
                </a:lnTo>
                <a:lnTo>
                  <a:pt x="12088" y="15229"/>
                </a:lnTo>
                <a:lnTo>
                  <a:pt x="13376" y="15229"/>
                </a:lnTo>
                <a:lnTo>
                  <a:pt x="13376" y="16151"/>
                </a:lnTo>
                <a:lnTo>
                  <a:pt x="8224" y="16151"/>
                </a:lnTo>
                <a:lnTo>
                  <a:pt x="8224" y="15229"/>
                </a:lnTo>
                <a:lnTo>
                  <a:pt x="9512" y="15229"/>
                </a:lnTo>
                <a:lnTo>
                  <a:pt x="9512" y="9136"/>
                </a:lnTo>
                <a:lnTo>
                  <a:pt x="8224" y="913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英国科学家培根在评价包括四大发明的时候曾说：“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它们改进了世界上事务的全部面貌和状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，又从而产生了无数的变化；看来没有一个帝国，没有一种宗教，没有一个显赫人物，对人类的事业曾经比机械的发现施展有过更大的威力和影响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9217" descr="DZ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9218" descr="DZ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9219" descr="DZ1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0241" descr="hst005_pic8b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17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1265" descr="image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动作按钮: 上一张 11266"/>
          <p:cNvSpPr/>
          <p:nvPr/>
        </p:nvSpPr>
        <p:spPr>
          <a:xfrm>
            <a:off x="2509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8T13:13:43Z</dcterms:created>
  <dc:creator/>
  <dc:description/>
  <dc:language>en-US</dc:language>
  <cp:lastModifiedBy>Administrator</cp:lastModifiedBy>
  <dcterms:modified xsi:type="dcterms:W3CDTF">2016-01-21T09:00:20Z</dcterms:modified>
  <cp:revision>110</cp:revision>
  <dc:subject>绿色圃中小学教育网http://www.lspjy.com 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